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A41-3B1F-4D41-B0F7-9270B239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DEA-6D86-4373-A439-0589D4D0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710-6749-4B1E-9F5A-558F735C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FF0-1BD5-493F-9A77-9F932729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CEE-BC58-48BE-BEC8-34A05C9E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933F-0685-43BA-AEB1-20873BB7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3E2-DBD9-40BA-B5F1-682180C1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B64C-4AA6-495C-92FD-70F819E5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C68C-6468-468C-9ABC-8388C3CF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5600-9AB9-4B26-8888-0CA22939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C646-2DE4-4162-BF3D-2184A45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C80-D175-4960-9B69-FC539FCE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FA45-879E-4852-9FCD-3F6A4E5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E9F-1419-4479-BD55-ACC8133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696-7504-4259-93AA-D16FD2BB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7342-1370-4CA8-87AF-B5D07E15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9FBE-1EF8-42AF-84D6-8D2749E5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D2A-B5F1-47E1-A0CC-FFE7977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3F2-93FB-4EAE-81CF-E8A72FA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5F6-1435-4323-9B73-2B5CD264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37D-3F7E-435A-A50C-51186FB2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B44-7A50-4CDA-B9A0-DD3A759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A0C-BF59-463E-9471-B8767F6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1D3-4061-496D-AD68-FCB12849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908-D3C9-44D6-88E7-45B85C6359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9B8C-59FA-4CCE-8175-374528AB56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6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ARABLE OF THE N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7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does not say what to do with those who are NOT walking upright, and refuse to repent, but other New Testament passages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Corinthians 5:4,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 Thessalonians 3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f. the following passages – Mat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15-18; Romans 16:17; 1 Th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:14; 2 Thess 3:6-16; 1 Tim 1:19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LESSONS LEAR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st as it was not good enough to be a good fish in the net, it is not enough to just be a good member of the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will purge the evil from His Kingdom in the final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weigh the consequences of “disfellowship a brother” seriously and scripturally before executing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similitude because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mparativ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more of a parabol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llustration than a parable, li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ny of the other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Topic:  Judgment of God – The good and the evil will be separated in judgment through ange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same setting as the previous 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was taught in private,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disciples, after entering a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last of the Matthew 13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en Jesus ends this parable He ask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ave you understood all these things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veral of the disciples we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shermen, and would immediatel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asp the significance of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Ne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 the para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Net” – “SAGENE” – English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ine.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Trench about ½ mile long (use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ea of Galilee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Not a simple fish trap, but a net to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uggest a sweeping that gather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everything in it sweep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a” – From a Greek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uggesting the entirety of the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uman race, at will all stand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judgmen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Beach or Shore” – These ar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hore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’s judgment h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Kingdom” – The universal reign of Chris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orldwide, over every 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a companion parable to the Tares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ere the field is the world (Matt 13:3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hrist’s reign is universal bo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ophetically and actuall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salm 2:6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1 Timothy 6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Revelation 19:15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The end of the World” com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en the “Net is ful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private parables beg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with the “Beginning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” and end with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ummation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ne of the parables ma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om for the 1000 year re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Angels” – They are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rvester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crip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Matthew 13: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Matthew 25: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2 Thessalonians 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Furnace of fire” – A fit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for GEHENNA – 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Weeping and gnashing of teeth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of punishment of the wick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eyond judgment (Matt 8:12; 13:42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3; 24:51; 25:30; Lk 13:2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Min message is that a separation will be made between the righteous and the un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of the Tares teaches us that the unrighteous are not to be weeded out if there is a chance of uprooting the 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e are guilty of sin if we cause a brother to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tumble. If he loses his soul because of us, w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an lose ou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 By sorting out the unrighteous in the churc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are NOT causing problems could split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urc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lways a chance they may see the error of thei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ay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teaches that God will take care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unrepentant in judgmen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re are both good and bad in the church. Be sure you are the goo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aithful attendance is a good start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iberal giving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Singing voic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eloquent in prayer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reat Bible teach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an elder/deacon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Visiting sick/shut-i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a meal to someone just out of the hospital is good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notes on sermo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ttending Bible lecture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a Bible degre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of the abov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M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the mind of Christ, being willing and loving, being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n subjection to His commands is what is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20:38:22Z</dcterms:created>
  <dc:creator>Jerry Cantrell </dc:creator>
  <dc:description/>
  <dc:language>en-US</dc:language>
  <cp:lastModifiedBy>Jerry Cantrell </cp:lastModifiedBy>
  <dcterms:modified xsi:type="dcterms:W3CDTF">2006-01-22T22:44:23Z</dcterms:modified>
  <cp:revision>12</cp:revision>
  <dc:subject/>
  <dc:title>THE PARABLE OF THE NET</dc:title>
</cp:coreProperties>
</file>